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F8C-0A56-49BE-8D94-C6190949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5C8-792E-41EC-9D12-DF57C998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007-8F22-4D1D-AB78-3FCFDAF9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1D3-8926-4D59-92EB-14E10AF9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5A0-2813-48C6-81D1-C4871B6C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DCA-0362-44D7-9D44-FF050AC0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DD6-BA3F-4B38-9783-EF18294E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8CB-E3B9-40A9-A48C-3615C78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E52-CEDC-478D-AF6E-6BA25792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6F8-36E7-4B32-AFEF-BF337E4B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DCC-D70C-4867-AFBC-AB747B8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EE8-0A6D-4ABA-BA9B-B6E8501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0FC84-CA1A-4539-B922-45F1ECAF1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A1050-81D6-42E4-AB8B-5657FCDA7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4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ublic Meeting Presentation</a:t>
            </a:r>
            <a:br>
              <a:rPr sz="2800"/>
            </a:b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30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400" spc="-1" strike="noStrike">
                <a:solidFill>
                  <a:srgbClr val="898989"/>
                </a:solidFill>
                <a:latin typeface="Calibri"/>
              </a:rPr>
              <a:t>Dr Ciaran Byrne, Chief Executive Offic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073320" y="314280"/>
            <a:ext cx="3319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78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Rat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Rationale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eries originally rated in similar way to commercial properties – i.e. on the ability to derive an income from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disjoint between the ratable valuation and the status of the fish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es are tied in with the  title issue and in a significant number of cases it is not clear who the rated occupier is (for historical rea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ificant amount of energy and admin time expended to generate a relatively small amount of revenue – need to look a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Rat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Options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ontinue with the current system  - (do nothing 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bolish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Modernise the system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86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sheries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Rational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FI is a smaller organisation  -  can no longer do everything itself &amp; need to remo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disjoint between the sector and the agencies which previously exis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eed to get the sector (Clubs &amp; Federations) involved directly in development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promotion of angling  - what is the best way to do thi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o manage the sector IFI needs to understand the dynamics of it – need to get 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understanding of domestic &amp; visiting ang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o have top quality angling sport we must identify method of resourcing fish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evelopment on a long term sustainable ba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90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Fisheries Develop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Options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ontinue with the current system  - (do nothing 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i)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Modernise the system and identify methods to resource fisheries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evelopment on a long term sustainable ba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94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Biosecu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Rational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is was not an issue in 1959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iosecurity  / invasive species management </a:t>
            </a:r>
            <a:r>
              <a:rPr b="1" lang="en-IE" sz="2000" spc="-1" strike="noStrike" u="sng">
                <a:solidFill>
                  <a:srgbClr val="ff3300"/>
                </a:solidFill>
                <a:uFillTx/>
                <a:latin typeface="Calibri"/>
              </a:rPr>
              <a:t>WILL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become a significant part of IFI’s work into the fu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Must adopt stringent controls on the importation and movement of species  - at ports of entry  - we are and island nation, this should be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lso must understand movement with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ome protection in Habitats Directive but need strong direct sanctions  - ie. penalties for moving introducing spe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Biosecu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Options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ontinue with the current system  - (do nothing 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i)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Modernise the system and identify methods to ensure we, either prevent the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ntroduction of, or eliminate any aquatic invasive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Vision and Miss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000" spc="-1" strike="noStrike">
                <a:solidFill>
                  <a:srgbClr val="4f81bd"/>
                </a:solidFill>
                <a:latin typeface="Calibri"/>
              </a:rPr>
              <a:t>“</a:t>
            </a:r>
            <a:r>
              <a:rPr b="1" i="1" lang="en-IE" sz="2000" spc="-1" strike="noStrike">
                <a:solidFill>
                  <a:srgbClr val="4f81bd"/>
                </a:solidFill>
                <a:latin typeface="Calibri"/>
              </a:rPr>
              <a:t>To provide an accessible and sustainable, world class, inland fisheries resource for al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Mis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E" sz="2800" spc="-1" strike="noStrike">
                <a:solidFill>
                  <a:srgbClr val="4f81bd"/>
                </a:solidFill>
                <a:latin typeface="Calibri"/>
              </a:rPr>
              <a:t>“</a:t>
            </a:r>
            <a:r>
              <a:rPr b="1" i="1" lang="en-IE" sz="2000" spc="-1" strike="noStrike">
                <a:solidFill>
                  <a:srgbClr val="4f81bd"/>
                </a:solidFill>
                <a:latin typeface="Calibri"/>
              </a:rPr>
              <a:t>To ensure the valuable natural resources of Inland Fisheries and Sea Angling  are conserved, managed, developed and promoted in their own right and generate a positive return for the community</a:t>
            </a:r>
            <a:r>
              <a:rPr b="1" i="1" lang="en-IE" sz="2800" spc="-1" strike="noStrike">
                <a:solidFill>
                  <a:srgbClr val="4f81bd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Principal 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Background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Principal Act is the 1959 (Consolidated) Fisheries Act which is 54 years old. Th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ct was itself a consolidation from the 1820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1959 Act reflects a different era when the focus of protection was on salm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isheries and privately owned fisherie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o real protection for habitats only fish – must incorporate relevant  EU Directiv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o references to biosecurity or aquatic invasive spe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act is very prescriptive and details over 120 fisheries offences – some 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onger relev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53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I Corporate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4 Measur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To improve the protection and conservation of the resour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To develop and improve wild fish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To increase the number of angl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To generate a better return for Ireland from the re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57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Legislation – Option Gen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2048040" y="1714680"/>
            <a:ext cx="50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62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Rationale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is is an opportunity to overhaul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FI will be a smaller organisation and we have  to legislate for the effici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ich we want – streamline the enforcement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ringing prosecutions is expensive and relatively inefficient  -  want to reduce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umber of people we bring to court but have bigger sanctions when we get t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lso want to be able to target repeat offenders in efficient way – cap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umulative fisheries offence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nhanced working with other stakeholders (S. 294 Private Water keep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66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Protection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Options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fresh current system and bring in some new offences / remove non relevant 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ection 294 Water Keepers  - modernise this provis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ii)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Modernise the system  and bring in measures lik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)  Penalty poi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)  Grading of offences and associated f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)  Stronger sanctions for prosecu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) Streamline payment system for fines and cut out ineffici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70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isheri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Rational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General principle of management  - must know who owns what, and where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tate fundamentally interested in identifying  / clarifying ownership of fish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eed to address this issue for the sustainable development of  the angl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sour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o facilitate long term structured management agreements with Angling Clubs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eder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e focus is on removing the barriers to enter the sport for domestic and touri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FI_rgb"/>
          <p:cNvPicPr/>
          <p:nvPr/>
        </p:nvPicPr>
        <p:blipFill>
          <a:blip r:embed="rId1"/>
          <a:stretch/>
        </p:blipFill>
        <p:spPr>
          <a:xfrm>
            <a:off x="6227640" y="5797440"/>
            <a:ext cx="2392560" cy="846360"/>
          </a:xfrm>
          <a:prstGeom prst="rect">
            <a:avLst/>
          </a:prstGeom>
          <a:ln w="0">
            <a:noFill/>
          </a:ln>
        </p:spPr>
      </p:pic>
      <p:sp>
        <p:nvSpPr>
          <p:cNvPr id="74" name="Line 3"/>
          <p:cNvSpPr/>
          <p:nvPr/>
        </p:nvSpPr>
        <p:spPr>
          <a:xfrm>
            <a:off x="468360" y="6093000"/>
            <a:ext cx="5722920" cy="0"/>
          </a:xfrm>
          <a:prstGeom prst="line">
            <a:avLst/>
          </a:prstGeom>
          <a:ln w="9360">
            <a:solidFill>
              <a:srgbClr val="3f9c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Fisheri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686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Options: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o nothing  -  avoid this issue in the new legisl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-establish a fisheries title unit and sequentially work through all title issu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roman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dentify a more streamlined way of dealing with fisheries title in new legis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0:34:45Z</dcterms:created>
  <dc:creator>Dan O'Callaghan</dc:creator>
  <dc:description/>
  <dc:language>en-US</dc:language>
  <cp:lastModifiedBy>Caroline Henry</cp:lastModifiedBy>
  <dcterms:modified xsi:type="dcterms:W3CDTF">2013-05-09T10:19:04Z</dcterms:modified>
  <cp:revision>85</cp:revision>
  <dc:subject/>
  <dc:title>Slide 1</dc:title>
</cp:coreProperties>
</file>