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614-8A49-446E-A0CA-A3F086426C7F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8DD-67BF-49CA-897B-E45B2977CA49}" type="slidenum">
              <a:rPr b="0" lang="en-IE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8CE-61BF-4417-AF85-BC50EF6E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52E-65E6-4D69-8AD1-A010AF9F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F05-B680-465A-A856-DAD75323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713-F00F-47CC-88A1-29C9CF95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6390-1807-4D99-A2EE-47FF2CD6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B9B3-C9F3-4FE6-AE81-1CB7950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750F-C4E1-4922-BC33-13B77C1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A9D4-6285-4F75-816C-DB33C64A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DDC-81EF-46F1-9C41-8A507D6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2C9-70B6-4500-9FA7-5386CE6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B88-5FF4-4FDD-B684-F96B3FB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D8F-0C4E-4FCB-9913-4BD839D9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575D-FB61-45EA-855D-E367AF2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01C9-285F-40FD-9CD7-B8BC9748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9510-DE9D-4B1F-AD56-2EFE179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3C5-57BB-4798-AA68-713EACD7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30E-2A28-44B9-94E8-1B22D4CC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B357-4938-430E-AB94-2E5A3762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ADE8-8017-4737-ADB7-677F837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C07D-C164-4A4A-A523-DEF587A0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86C0-F8DA-4677-B175-19E073D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A3AA-EDA1-4F6A-8CA7-B5F77279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52B-6466-4997-9DC5-124E7E6B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2F37-74CA-42E6-BE9C-5B7F390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E16C-B1C1-45F3-AD45-DB2D6B9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EB79-4E30-4DE5-BE40-284C76B8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3E35-B861-46BE-BC44-CD7ABD70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EB87-70F0-41C4-A695-203E02A0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49CB-A243-4995-9F14-24E4765E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1279-4D77-4DF9-9852-2136C452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DFB4-D325-4553-8F01-4094719E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3E93-B3B4-4AF6-882D-FDBFE5DD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1543-185C-446B-9ACA-52C6D264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855-F534-4F2F-B91C-A0F650A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EB68-55CA-4D73-8B76-675BD74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BFA1-A143-4E1D-8F81-67D380D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7869-7FC6-4718-93C3-28984CA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788C-BA3B-4EA1-B958-6B0D41E5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0B7C-32CB-4BC2-A536-00933DA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8A94-1C02-4684-9148-0003D5C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BE1D-083F-4572-A3A6-26FA114D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B16C-25E2-43FF-B385-30C17D09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6936-8083-4CA8-9AD5-4470E814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E8B-FA23-49B9-B42B-3726E622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7C4-1202-4E54-93A2-8262079D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18F-73BB-4CE8-BD01-B0DE065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B31-65EE-4D34-9E74-85A03F9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3E9-C93F-4A54-ACA1-1D9D8EA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745-4A95-4781-B05E-5FA678C9C4B2}" type="slidenum">
              <a:rPr b="1" lang="en-IE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CB1-A422-4260-A6C5-B366EA292C5E}" type="slidenum">
              <a:rPr b="1" lang="en-IE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D7A-C01E-4E37-9D96-683ADBB6956F}" type="slidenum">
              <a:rPr b="1" lang="en-IE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D477-F9DA-4E2B-A98E-FCA7D9B1000E}" type="slidenum">
              <a:rPr b="1" lang="en-IE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en-IE" sz="22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en-IE" sz="2200" spc="-1" strike="noStrike">
                <a:solidFill>
                  <a:srgbClr val="212745"/>
                </a:solidFill>
                <a:latin typeface="Trebuchet MS"/>
              </a:rPr>
              <a:t>THE PROCES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Title 3" descr=""/>
          <p:cNvPicPr/>
          <p:nvPr/>
        </p:nvPicPr>
        <p:blipFill>
          <a:blip r:embed="rId1"/>
          <a:stretch/>
        </p:blipFill>
        <p:spPr>
          <a:xfrm>
            <a:off x="669960" y="2249640"/>
            <a:ext cx="7791480" cy="2401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image001"/>
          <p:cNvPicPr/>
          <p:nvPr/>
        </p:nvPicPr>
        <p:blipFill>
          <a:blip r:embed="rId2"/>
          <a:stretch/>
        </p:blipFill>
        <p:spPr>
          <a:xfrm>
            <a:off x="611280" y="836640"/>
            <a:ext cx="34560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529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404040"/>
                </a:solidFill>
                <a:latin typeface="Trebuchet MS"/>
              </a:rPr>
              <a:t>Starting Point (What’s currently in plac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1959 and subsequent Acts up to 2010 (13 in total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Ancillary SI’s and Bye-laws (some going back to 1842) – circa 400 still in for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404040"/>
                </a:solidFill>
                <a:latin typeface="Trebuchet MS"/>
              </a:rPr>
              <a:t>STAGE 1 of Proces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Review existing legislation and any subsequent repeal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While this exercise is not reviewing secondary legislation, ultimately the aim is to have all legislation, primary and secondary (especially where maps are involved) all in the one place – basic starting poi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404040"/>
                </a:solidFill>
                <a:uFillTx/>
                <a:latin typeface="Trebuchet MS"/>
              </a:rPr>
              <a:t>Review of existing legisl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Trebuchet MS"/>
              </a:rPr>
              <a:t>Look at what is still in for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Is it still relevant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Does it still apply? – is it too prescriptive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Case-law -  is it enforceable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What has happened since legislation was enacted – has focus changed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Trebuchet MS"/>
              </a:rPr>
              <a:t>Outside influe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Environmental la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Habitats Direc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Trebuchet MS"/>
              </a:rPr>
              <a:t>New Threa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Invasive Speci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343080">
              <a:spcBef>
                <a:spcPts val="550"/>
              </a:spcBef>
              <a:buClr>
                <a:srgbClr val="00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79520" indent="-343080">
              <a:spcBef>
                <a:spcPts val="550"/>
              </a:spcBef>
              <a:buClr>
                <a:srgbClr val="00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98480" indent="-34272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Learn from known issues in Fisheries, previous reviews, problems highlighted by stakeholders, court decisions etc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98480" indent="-34272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Modern innovations, eg. new ways of patrolling, tagging, etc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98480" indent="-34272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Trebuchet MS"/>
              </a:rPr>
              <a:t>Other changes – fixed penalty notices, Fines Act 2010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7952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731520"/>
            <a:ext cx="640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End result of this process - key question to be answere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rebuchet MS"/>
              </a:rPr>
              <a:t>What are the key policy objectives that need to be addressed by the new legislation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669960" y="2962440"/>
            <a:ext cx="73216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Public Information Meetings (5 in total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Notice in newspaper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Commencement of public consultation proces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Written submissions to be forwarded to Department on any aspect of legislatio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Consultation period lasts from from 13</a:t>
            </a:r>
            <a:r>
              <a:rPr b="0" lang="en-IE" sz="22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 May 2013 up to </a:t>
            </a:r>
            <a:r>
              <a:rPr b="1" lang="en-IE" sz="2200" spc="-1" strike="noStrike">
                <a:solidFill>
                  <a:srgbClr val="404040"/>
                </a:solidFill>
                <a:latin typeface="Trebuchet MS"/>
              </a:rPr>
              <a:t>10</a:t>
            </a:r>
            <a:r>
              <a:rPr b="1" lang="en-IE" sz="22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1" lang="en-IE" sz="2200" spc="-1" strike="noStrike">
                <a:solidFill>
                  <a:srgbClr val="404040"/>
                </a:solidFill>
                <a:latin typeface="Trebuchet MS"/>
              </a:rPr>
              <a:t> June 2013 (extended to 28</a:t>
            </a:r>
            <a:r>
              <a:rPr b="1" lang="en-IE" sz="22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1" lang="en-IE" sz="2200" spc="-1" strike="noStrike">
                <a:solidFill>
                  <a:srgbClr val="404040"/>
                </a:solidFill>
                <a:latin typeface="Trebuchet MS"/>
              </a:rPr>
              <a:t> June 2013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3" descr=""/>
          <p:cNvPicPr/>
          <p:nvPr/>
        </p:nvPicPr>
        <p:blipFill>
          <a:blip r:embed="rId1"/>
          <a:stretch/>
        </p:blipFill>
        <p:spPr>
          <a:xfrm>
            <a:off x="628560" y="231840"/>
            <a:ext cx="73630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528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404040"/>
                </a:solidFill>
                <a:latin typeface="Trebuchet MS"/>
              </a:rPr>
              <a:t>STAGE 3: Drafting of Legisl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Draft Heads will be prepared after consideration of submissions received (R.I.A proces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Draft Heads will be submitted to Government for approval in Autumn 2013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If agreed by Government, department will work on drafting a bill with the Office of Parliamentary Counsel (Office of the Attorney General will also advise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Minister will bring through the Oireacht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404040"/>
                </a:solidFill>
                <a:latin typeface="Trebuchet MS"/>
              </a:rPr>
              <a:t>If passed by Oireachtas, will be enacted (indicative timeframe 2014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47:55Z</dcterms:created>
  <dc:creator>Gemma Lynch</dc:creator>
  <dc:description/>
  <dc:language>en-US</dc:language>
  <cp:lastModifiedBy>Caroline Henry</cp:lastModifiedBy>
  <dcterms:modified xsi:type="dcterms:W3CDTF">2013-05-09T10:17:33Z</dcterms:modified>
  <cp:revision>19</cp:revision>
  <dc:subject/>
  <dc:title>STAGE 1</dc:title>
</cp:coreProperties>
</file>